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5048"/>
        <c:axId val="5689158"/>
      </c:barChart>
      <c:catAx>
        <c:axId val="1217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158"/>
        <c:crosses val="autoZero"/>
        <c:auto val="1"/>
        <c:lblAlgn val="ctr"/>
        <c:lblOffset val="100"/>
        <c:noMultiLvlLbl val="0"/>
      </c:catAx>
      <c:valAx>
        <c:axId val="5689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FBF-4A23-4C4D-B662-830B8657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0F0-B7F7-42FE-AE46-FF5E4B2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6ED-99D1-4A07-BD16-C45494A1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242-58E8-4A0E-B4D5-A4396528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C0D-0B06-4041-8331-CC601FE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8A4-BE66-4EA0-9AB2-AEAC9F4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A36-C5D3-4151-B842-C65FA9F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A3B-43AD-4315-AAC5-06ABAEC1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F4B-D6A8-4423-8DF8-3F63402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BDC-B399-4E4E-92B2-8D4C3A5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F42-D8A8-4B2F-95BA-F144918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7F5-8A61-4E4E-AE85-F70CE0A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43178-AF8B-416A-A350-627BB85E9A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