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560220"/>
        <c:axId val="17708664"/>
      </c:barChart>
      <c:catAx>
        <c:axId val="585602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08664"/>
        <c:crosses val="autoZero"/>
        <c:auto val="1"/>
        <c:lblAlgn val="ctr"/>
        <c:lblOffset val="100"/>
        <c:noMultiLvlLbl val="0"/>
      </c:catAx>
      <c:valAx>
        <c:axId val="177086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602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F535-4DAA-4CF4-BF5D-8F956035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F594-D56C-4869-A305-8205D1E4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AF3C-9A8A-4165-9F9C-6E3501CC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B1AF-925B-4A3B-8756-4A182DB9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AC50-C6F0-4777-81D2-A267FD8D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3AE2-F8A3-49B9-9E8F-77DC2C58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BA27-443F-4718-B39D-1E4A2A0C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6B95-39BC-4C62-B01F-9235DB80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9B6C-528D-4F4A-888E-39AD48ED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95D9-44A4-44DF-9105-2747E3CC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D32B-AEBB-4529-AFA0-EED7BC10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ACBB-2454-4E7E-8D59-2B6AAB99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C1CEE-E2FE-46E5-BDD9-881F96CF3F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