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7754"/>
        <c:axId val="48311965"/>
      </c:barChart>
      <c:catAx>
        <c:axId val="78977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11965"/>
        <c:crosses val="autoZero"/>
        <c:auto val="1"/>
        <c:lblAlgn val="ctr"/>
        <c:lblOffset val="100"/>
        <c:noMultiLvlLbl val="0"/>
      </c:catAx>
      <c:valAx>
        <c:axId val="48311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7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F7F-A789-4209-9595-BDC14D64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257-5D62-4F5B-A1C9-508502B4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330-3F05-4CD8-8780-2AB9CBBC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B52-807E-403A-BD19-59B1312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FB4-B588-471D-A9FD-CB73859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912-82A7-41CA-B9D7-BD51B287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281-D51B-4E37-8F6E-A665032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A54-1E26-4DDF-B525-3818CFDE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BAD-1A45-47E3-BAA3-A71545A1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4C0-CDE6-4F98-8A73-85E3F5F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B60-BDCF-4BF0-A3F5-D423787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D91-8799-42E7-95AE-77F067C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A56A-6870-42EE-8C34-3FABE53B6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