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2147"/>
        <c:axId val="56312378"/>
      </c:barChart>
      <c:catAx>
        <c:axId val="9422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2378"/>
        <c:crosses val="autoZero"/>
        <c:auto val="1"/>
        <c:lblAlgn val="ctr"/>
        <c:lblOffset val="100"/>
        <c:noMultiLvlLbl val="0"/>
      </c:catAx>
      <c:valAx>
        <c:axId val="56312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2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CDE-A281-4D52-A0A1-3BD16285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6EB-5E34-4D4D-AA3C-C760B0A3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8C3-7EBA-475C-BA21-D4FCDCD2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6D4-6DDD-48F8-BBF1-348D4FA8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72E-C139-4EAB-B100-6862F0D1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C8F-B458-447A-A876-162E8FEE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93E-FA9B-4FD3-BFF3-582D089E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912-AD92-4AF3-9FF0-7A746EFE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BEA-31A1-469E-9AFA-C732714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67B-CAFC-44DF-93E0-218C8B9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FD0-A26C-4F23-944C-0C2F2E37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5F3-A373-4F45-8385-E890201F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9BC42-96A8-4940-95FC-3FE1E442EF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