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75716"/>
        <c:axId val="60206687"/>
      </c:barChart>
      <c:catAx>
        <c:axId val="86875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06687"/>
        <c:crosses val="autoZero"/>
        <c:auto val="1"/>
        <c:lblAlgn val="ctr"/>
        <c:lblOffset val="100"/>
        <c:noMultiLvlLbl val="0"/>
      </c:catAx>
      <c:valAx>
        <c:axId val="60206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75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6EF-E1CC-47AC-B05B-FDFA0F06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E73-13BE-4F0F-8D4F-B27DDFE3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567-0E8C-417E-B582-E04937FE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3F1-4700-49FB-97A1-BA111538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8B0-E379-4E71-BFBD-C4E0F0DD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D47-6FCB-4A39-9365-A217205C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FF82-FFD2-416D-98CC-DEE3D1D7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A192-5E9D-419D-974D-37DBCD35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DC2-4138-49F6-AD5E-B5102FA0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FCE-E991-456D-93AE-CA65C8C1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220-A666-4C95-97BD-578B7128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538-212B-4AE8-9A86-873C6AB5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0DE78-5661-4E40-8E3F-AFA7230BF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