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92462"/>
        <c:axId val="32724448"/>
      </c:barChart>
      <c:catAx>
        <c:axId val="13292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4448"/>
        <c:crosses val="autoZero"/>
        <c:auto val="1"/>
        <c:lblAlgn val="ctr"/>
        <c:lblOffset val="100"/>
        <c:noMultiLvlLbl val="0"/>
      </c:catAx>
      <c:valAx>
        <c:axId val="32724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92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335-E88E-4892-95B0-70EBADF5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1E7-44DA-4631-9175-91483A9B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6D7-1100-4947-82FE-FADD2D87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528-1134-4B28-94F5-55EC58AF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776-195D-4761-9325-7146CC5A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0DB-51B1-4CCF-B02B-CABCF2AD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6EE-5553-42A7-8373-7F69CF8D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553-3E46-4A5D-9974-C678F2A1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F92-2796-40F4-88EC-91EB01D8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C8E-2BE6-46D7-9D35-C2818258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1BE-2EFD-4024-9472-87680034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3D2-B318-43A6-ADD5-44C09906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3F18F-9B46-4D9E-B808-1B986F0CB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