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36908"/>
        <c:axId val="80557884"/>
      </c:barChart>
      <c:catAx>
        <c:axId val="347369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57884"/>
        <c:crosses val="autoZero"/>
        <c:auto val="1"/>
        <c:lblAlgn val="ctr"/>
        <c:lblOffset val="100"/>
        <c:noMultiLvlLbl val="0"/>
      </c:catAx>
      <c:valAx>
        <c:axId val="805578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369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EDB-0B74-45D2-B1BB-E1502496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B2EC-9FD6-4350-98E5-37D1654E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9376-27C4-4896-A957-07805027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312-AE41-4CED-B90B-E99D6C50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4EBA-2C25-4938-97B3-D6ACD485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20C6-50AE-46E5-80D5-98E4C126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3ED-1C7B-481D-AC75-7C7D3885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513-68FB-4370-BE7D-72FDEB49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061-B531-4250-B722-81144E04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7BA8-BF42-4351-87BB-436940F7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CF00-E6B5-4B2E-AAF8-EA6E60FF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A44-25C7-4164-AB56-BDC8C5B5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1908C-8F1A-4DB3-9E7D-8FE1911946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