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981230"/>
        <c:axId val="7197592"/>
      </c:barChart>
      <c:catAx>
        <c:axId val="339812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97592"/>
        <c:crosses val="autoZero"/>
        <c:auto val="1"/>
        <c:lblAlgn val="ctr"/>
        <c:lblOffset val="100"/>
        <c:noMultiLvlLbl val="0"/>
      </c:catAx>
      <c:valAx>
        <c:axId val="71975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9812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283E-CF0F-46B4-B903-7550F1412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2AAB-64B5-4BA8-8E69-DDF28920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AD2B-4925-4B49-9E3A-BCD508872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D175-5E0E-4AD7-9317-9F57A1458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6C82-F27D-4828-AA06-95FEB5C5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DC97-4754-4362-B786-ACEF276C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386E-2875-441D-B83C-9ECDAA0A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42B4-CB9B-4D92-92AB-A75BF92F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50D6-AE49-4D1E-8C8B-08920380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A547-400D-4674-B4EA-FA5576F6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1CCA-9023-46C4-899A-7E013A43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E0CA-9E1D-469D-8685-ED79281B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105CD4-956C-411F-A2CD-503F5B5A33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